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B216-22E7-4116-927F-98C3EEEDE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0A68-693C-487F-8A13-EB7F4CB3BC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1E62-C796-4130-A397-0075C43CBC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A823-3A24-4776-9256-0160753E24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9545-D32B-4899-BAD1-2B8CA20F45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F02A-7F89-4DA0-992E-7626CB0583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8C31-3F4B-45EB-B507-76BFB24E49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B1B7-DE8C-4D33-B9A1-A59958D22A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6904-BC1B-4EC5-BCC5-BC1B5FE69D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20E8-62F9-4EE3-8AC6-5A88BB91BB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AB1E-3452-4A65-BED6-E38E476E1E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75F-B0DD-4A52-9B10-23563467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95F-0A10-43A0-994F-F5461835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C1C940-D11C-4C44-8169-C2EB4CDE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B58200-F042-41C5-BB2B-0611D85E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E984EA-958A-407C-BC80-DC984FFF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015C09-1821-4373-82E2-E6F7053B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F82C10-4E9D-42C7-B242-2F89AE9E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F6FE4-9576-4E75-B217-98112195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1435C6-A36B-4CF8-A8F8-A5D938D8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F8746D-7E57-4D1D-8349-3B6FC07C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200EC-F5DD-45B0-AD32-F9F96B3C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212-A1AD-4B91-94F5-C76C7247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CFA-D177-412F-BF01-9173B54F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7A829-2257-4281-9298-67A3203B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46F3C-575C-45E5-9085-11DCD61B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9ED09-BC6A-4CFB-90C7-6F21486B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8A0FA-B50D-473B-8842-D00397E6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AA9BE-BA05-452A-9BDF-233D1CDC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93685-4038-4844-9AC3-19F147AA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4F638-44F3-48D5-81C2-82AF64FD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715-5F90-461E-83C1-56988B7F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7EF24-86A8-4A46-B178-73E0D53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AED5D-0197-46AC-8464-E4E27AB8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25A5B-FC10-4765-BC1A-393003FD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C8D8E-A963-445E-A98C-709CA433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A90C3-81C9-44D9-ADB1-5350F689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9CCA-90E6-4FCA-A37B-680A9F92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0E03-CD54-46ED-A740-1472C35D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2A02-3B0A-4263-B44C-6F963A90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6F97-9868-4745-A4CD-4A2DC86B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7464-9F56-4FAE-A8FC-B57758D1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567-EAB8-416C-8EA5-F751EA89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4040-3F08-4EAB-A395-A0DC09A6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6727E-0694-4F16-B048-DA3EF90F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69D4-5314-4DDD-8010-B1CC8414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02F22-FCE7-4ABE-93C4-F12EC21D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8480-15C1-4F1D-8D4F-FF9A4AC1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DC18-DC7E-4DEA-BCF3-4A827174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BA9EE-35CD-4966-8C1E-5B8E7353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F0210-40F7-4E8C-963F-283F3DFB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4E375-EFFB-441D-B997-F10CFDA1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EE167A-AEE6-4C78-9E4C-00AEA154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759-05A9-4C58-8106-3B6FF97F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3F029-A4C3-4B41-BC1E-8F0CFCEC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C5947-F72A-46F9-9FA6-5BC40AF7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FD4CC-EAC3-4892-91F7-6762FD25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1AB2E-C32C-4B25-A89C-AF44C1F9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0E22D-0A0A-4B8F-86B1-018C6479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57FBA-A20A-4A2B-A9E4-95CCEC38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A0A99-EDEE-489C-9F2F-0838EDE8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687CF-F40B-4B69-9792-94C5D6F7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79188-73DB-49E0-8EAF-029999B9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A1C4-B695-4E5D-AFD0-DEC87E0F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2F6-2DC9-4E89-B811-7434C3D9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A57C6-8508-49B2-B8C3-F1B6525D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24C16-3DBE-4D84-86E3-AF8E2DE6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34576-B31F-4A95-BFEB-2CC89C41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806BF-EC56-4579-B21D-0280DBD4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97F77-1924-42B8-B54F-546780E6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C8669-650A-4575-B2E7-EE27FBF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44461-7907-4418-8563-9087AB1D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D055-FAC8-4058-BC1B-1363E672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DEA47-7722-49BE-A7B3-7572494D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BEA5E-A002-4EF7-97CB-5CBE2A1F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2EB-D881-4EB1-BC16-21C6663F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1567F-3C09-47AA-8BCE-30BC8157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2C431-5263-4DD1-801A-87C0DB17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EB299-0269-4BA4-9D0C-DFAEAD12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1490B-A112-48B0-B0C6-4FC3FF62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3EAC9-4816-42B8-9FE1-30253FA3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530EE-5C8B-463B-88E9-7AE1D311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D6AEE-4D4A-46A7-B675-481E3659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0F12B-FCE6-4B86-8B07-6B688A2F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5C75-A5DD-480F-964B-717201A4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D6052-0872-41A6-8FEC-E03B3E6F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10D-E9B6-4C95-9B39-4EC9E7C8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A81EC-97EB-4ED5-AA7A-9FB20DE2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777D-4416-4089-A5A7-26F6F134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35130-C781-4C8F-AC24-047ACB76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8921C-A616-455C-8EA6-4F4FB985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2F88F-F71E-4BCE-BE31-8726D991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06F41-EDBB-42C8-A327-7A451AFE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23833-669B-4EBC-A32E-BD37C2B4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2BC14-8DED-4C6E-9CDB-3937FC44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8454C-B344-4C1F-BB8F-82220CF3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26F5F-2817-40A2-B39D-A29C216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1FC-2041-48DA-8F8D-49E9470D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432D9-65B4-4FCD-A866-61B0F3F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35DD6-4151-4191-A1DE-B8F422F6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6C41E-484C-44F1-9EFD-6D9850C1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84BC-1E35-4402-962B-48C4ED43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15913-00D2-4430-8F8C-7E2C4894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A01A1E-D3B8-4D07-A836-79DD88BF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F6393-90EF-40DD-9B11-9C410CFD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AAF111-7493-452E-9987-741A0F28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DB0B5F-A7F6-4814-A8F3-5F97BF2C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CAEF63-7FA6-45BC-8761-86B8C7BA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633-398E-4CA8-ABFA-605F9F75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5BB92-116B-4AF4-AA74-065CCA16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E30248-C1A3-4232-BAA7-1CA7F607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C83E07-5239-444F-9F81-F0F6ECA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44DFCE-3E66-4F7C-AF5B-74C88F17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F791A2-000F-4C6E-B80C-B116BD3A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32532-C6BD-4D3F-A016-F97F8C1B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140AF5-77BF-45E2-B2C7-D783BEFA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CCBCB2-16BA-4F20-A29B-8B2997EE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195C4-6C11-477D-B749-3001B0C8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A2103D-2519-438E-A1EE-794E8F54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C155-2815-4E8C-A9F7-851E9D20A045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6C2B-6730-4786-B112-64293168B400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7E8D-CCDD-4217-B06D-4F97F5BD7809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B2FD-E7F2-47EE-87CE-51FB1798E967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21AC-EE51-44CB-83F0-B117C034DFB6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2DE2-2AB3-4A40-ADEB-21B8D45A66D3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152B-7FCA-4693-9DA6-7B0F51DA55AF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8A4C-FF00-4692-9F99-535AD06F528C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71AD-F096-43BF-ACF7-1D1BE98E61C8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aRlFsYmkeY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ake out your “Getting to Know You” sheet.  (finish it if you forgot last night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228600" y="42660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nergy Use or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rocesses that take in and transform energy from the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OWTH and DEVELOPM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fe grows and then changes (matures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assing of genes to offspr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DNA from two organism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Organism produces exact copy of itself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e Changes over tim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ganisms evolv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http://www.youtube.com/watch?v=faRlFsYmke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(Homer Evolution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609480" y="3884760"/>
            <a:ext cx="792504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2"/>
          <a:stretch/>
        </p:blipFill>
        <p:spPr>
          <a:xfrm>
            <a:off x="450720" y="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Bacte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Archea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Eukarya --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581280" y="2587680"/>
            <a:ext cx="5562720" cy="427032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3809880" y="1143000"/>
            <a:ext cx="457200" cy="609480"/>
            <a:chOff x="3809880" y="1143000"/>
            <a:chExt cx="457200" cy="609480"/>
          </a:xfrm>
        </p:grpSpPr>
        <p:sp>
          <p:nvSpPr>
            <p:cNvPr id="432" name=""/>
            <p:cNvSpPr/>
            <p:nvPr/>
          </p:nvSpPr>
          <p:spPr>
            <a:xfrm>
              <a:off x="3886200" y="1143000"/>
              <a:ext cx="38088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809880" y="1371600"/>
              <a:ext cx="4572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251240" y="117936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31520" y="19447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2"/>
          <a:stretch/>
        </p:blipFill>
        <p:spPr>
          <a:xfrm>
            <a:off x="450720" y="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152280" y="80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che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ists – algae, amoeba, euglen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ungi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imal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2619360" y="2305080"/>
            <a:ext cx="6524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4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to your group from Frida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out your online book scavenger hunt and get the laptop you signed ou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5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e two types of reproduction?  How do they differ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osphere – planet that sustains lif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cosystem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mmunities of living organisms and their non-living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iotic = living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biotic = non-liv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volu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hanging of a population over tim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atural Selec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are beneficial are more likely to be passed to offspring - “survival of the fittest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aptation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improve organisms ability to survive and reprodu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tnes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 organisms contribution to genes to the next gener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228600" y="4900680"/>
            <a:ext cx="3352680" cy="19573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5334120" y="3895560"/>
            <a:ext cx="38098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228600" y="122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ey mice…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better camouflage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get eaten less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pass on their grey genes to the next generation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ich means a higher fitnes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1600200" y="2890800"/>
            <a:ext cx="703908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25210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4647960" cy="24084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4952880" y="4379760"/>
            <a:ext cx="41911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2"/>
          <a:stretch/>
        </p:blipFill>
        <p:spPr>
          <a:xfrm>
            <a:off x="-6480" y="2120760"/>
            <a:ext cx="8083800" cy="1494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339360" y="4684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k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2"/>
          <a:stretch/>
        </p:blipFill>
        <p:spPr>
          <a:xfrm>
            <a:off x="450720" y="-66600"/>
            <a:ext cx="8620200" cy="14745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eate your own hypothesis explaining how giraffes evolved long necks, assuming their ancestors were shorter.  What evolutionary pressure caused the longer necks? (Why did it happen?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iraffe fight!!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http://www.youtube.com/watch?v=C7HCIGFdBt8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0198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39909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6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es natural selection lead to evolution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2"/>
          <a:stretch/>
        </p:blipFill>
        <p:spPr>
          <a:xfrm>
            <a:off x="450720" y="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we use science for?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000" indent="-24552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lps explain the world around u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es this work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000" indent="-24552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sually starts with a question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000" indent="-24552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y do things fall?  How do plants grow?  Why do leaves change color in the fall?  What do barnacles eat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usually leads to a prediction and your hypothesis (sometimes in the “if-then” format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000" indent="-24552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(IF stuff falls then it is because the atmosphere is pushing down on them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Scientific Method (con’t)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xt, you obviously want to test your hypothe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igning your Experiment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Control Group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– setup that stays the same in the experi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Experimental Group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– setup that is changed in the experi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Independent Variable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– factor that you are testing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Dependant Variable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– or responding variable (changes because of the independent variable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Scientific Method (con’t)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alyze your dat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ganize data into charts, graphs, etc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esults should be “meaningful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est 10 people and drug works for 6 vs. 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est 100 people and drug works for 60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ate your conclus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e proved our hypothesis”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(yay!  Now your work must be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Rockwell"/>
              </a:rPr>
              <a:t>REPRODUCED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e disproved our hypothesis”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(boo!  Lets try testing another variable)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Scientific Method (con’t)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unicate your resul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rticles, Journals, meetings, etc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895480" y="297180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Scientific Method (con’t)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y would we want a “Blind Experiment” 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 make sure the researcher isn’t biased for / against the result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Researcher doesn’t know which “subjects” received new medicine, just making measurements or chang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dependent Researche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ot associated with the hypothesis they are research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7162920" y="1143000"/>
            <a:ext cx="1590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Scientific Method (con’t)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cientific Theo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fferent from a regular “theory”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mething that has been tested many times and there is no conflict with existing observatio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E:  Gravitational Theo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e know where stuff will land if we drop it, but we can’t say we are 100% correct in explaining i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981080" y="914400"/>
            <a:ext cx="548640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 much…just the study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life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 how does it affect u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ffects our health, foods, medicine, the environment, how we interact, etc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-6480" y="-103320"/>
            <a:ext cx="8107560" cy="1865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endr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otan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Zo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c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tom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ryob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nith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atom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hys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chthy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rpet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pidem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What are  the characteristics of life?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 groups with someone around you and try to brain storm as many characteristics of life as you ca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9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ree ways you could tell if an organism was alive (out of the 7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7 Characteristics of  Lif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maintain 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have a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GROW and DEVELO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REPRODU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EVOL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380880" y="0"/>
            <a:ext cx="7828200" cy="1006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522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92556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 basic unit of life is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cel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92556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ganization of living thing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Organ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 tissue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 cell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 organelle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 bio molecules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 atom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3124080" y="30481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152280" y="3048120"/>
            <a:ext cx="2819520" cy="25081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4724280" y="4343400"/>
            <a:ext cx="3581640" cy="2147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457200" y="3962520"/>
            <a:ext cx="3886200" cy="27414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086600" y="762120"/>
            <a:ext cx="19177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tenance of stable internal conditio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Temperature, levels of water,  nutrient uptake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0:44:28Z</dcterms:created>
  <dc:creator>David</dc:creator>
  <dc:description/>
  <dc:language>en-US</dc:language>
  <cp:lastModifiedBy>SASD</cp:lastModifiedBy>
  <dcterms:modified xsi:type="dcterms:W3CDTF">2009-09-16T12:55:08Z</dcterms:modified>
  <cp:revision>43</cp:revision>
  <dc:subject/>
  <dc:title>The World of Biology</dc:title>
</cp:coreProperties>
</file>